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66A-5EEE-4650-A02C-782AA270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B0F-7B23-4CC1-A47D-C02F297F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6D8-4CEB-446B-842D-64B228D4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8C0-020C-4917-916A-FFB72E01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6FD4-1808-4D25-A970-4C1D99BC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C549-55D5-4977-8E4D-0EF8F4DA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1A1A-4E52-4782-8358-7BA8D7C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FA80-9FBF-4363-BF51-23577378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005C-DC25-4FAE-8727-FDC7E46E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D0E1-365E-4B8C-A38B-ABD3C1C6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0278-D349-4A83-8765-1CD3DA9E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C92-A3C0-4692-86EA-184ED662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5DAD-7A4E-43B8-9A58-13EF9A64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84D1-EB28-4CEB-9054-0645FC80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8282-6CA5-4507-A7E9-E6B07C12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E211-DC1E-40CC-90A6-A20C6F46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31CB-D5F8-4B44-AF67-FB2431D5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8FA-EE79-4DE5-BCB8-FCE0497E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4CE-66CC-4884-AD58-B77192D8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AE6-B819-45A7-9303-176A47E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1AD-3FF2-4BB4-8873-483F0577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A4A-E611-4370-96D6-42670688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275-602B-4E4F-9ED7-12CFCC72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9D5-6721-4160-A8BC-B7EDE72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E5E5-CB4F-42ED-A928-46C0439DA478}" type="slidenum"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A74-DD63-48E8-858C-7180C017E6F4}" type="slidenum">
              <a:rPr b="0" lang="es-ES_tradnl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4000"/>
          </a:bodyPr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a nariz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con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a nariz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con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yo huelo yo huelo huelo huel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Huele bien huele mal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El cochino huele mal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a nariz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-2192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huelo con la nariz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2192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077320" y="3352680"/>
            <a:ext cx="52848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143676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554960" y="4572000"/>
            <a:ext cx="158904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7620120" y="1219320"/>
            <a:ext cx="1268280" cy="127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457200" y="533520"/>
            <a:ext cx="1268280" cy="127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57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jos,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veo con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jos,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veo con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veo yo veo yo veo veo ve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Azul, y rojo, verde, amarill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jos, los ojos yo veo con los oj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692000" cy="1128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62120" y="6095880"/>
            <a:ext cx="1616040" cy="1078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527960" y="631836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28600" y="228600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429000" y="0"/>
            <a:ext cx="1539720" cy="1027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7010280" y="2743200"/>
            <a:ext cx="1616040" cy="1077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131148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57840" y="-5393880"/>
            <a:ext cx="304920" cy="121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6000"/>
          </a:bodyPr>
          <a:p>
            <a:pPr marL="191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ídos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 con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ídos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 con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, yo escucho, escucho, escucho escuch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no hablo yo escuch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Yo escucho a mi amigo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-19188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oídos los oídos yo escucho con los oí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191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920880" cy="141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305920" y="4876920"/>
            <a:ext cx="622080" cy="95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771480" cy="118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8323200" y="2209680"/>
            <a:ext cx="820800" cy="12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543800" y="0"/>
            <a:ext cx="870120" cy="1335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0" y="457200"/>
            <a:ext cx="820800" cy="12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33520" y="5562720"/>
            <a:ext cx="695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162920" y="1600200"/>
            <a:ext cx="169200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451640" y="4952880"/>
            <a:ext cx="1692360" cy="13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Las manos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Yo toco con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Las manos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Yo toco con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Yo toco yo toco yo toco toco toco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ave, áspero, blando y duro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  <a:p>
            <a:pPr marL="263880" indent="-2638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Las manos las manos yo toco con las manos</a:t>
            </a:r>
            <a:endParaRPr b="0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12120" y="0"/>
            <a:ext cx="1631880" cy="132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1387440" cy="112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53080" y="56386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740720" y="2209680"/>
            <a:ext cx="1403280" cy="1140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581280" y="5854680"/>
            <a:ext cx="1235160" cy="1003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0" y="2438280"/>
            <a:ext cx="1327320" cy="1078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457200" y="533520"/>
            <a:ext cx="1600200" cy="12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boca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o como con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boca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o como con la boca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o como yo como yo como como como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fruta es dulce, el Cheeto es salado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boca la boca yo como con la bo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38880" y="2590920"/>
            <a:ext cx="1441440" cy="126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266688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981080" y="0"/>
            <a:ext cx="1673280" cy="1467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086600" y="609480"/>
            <a:ext cx="1136520" cy="99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04920" y="533520"/>
            <a:ext cx="1368360" cy="1199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533520" y="5257800"/>
            <a:ext cx="758880" cy="66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8077320" y="5181480"/>
            <a:ext cx="75888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Yo yo yo yo yo yo yo yo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Los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Times New Roman"/>
              </a:rPr>
              <a:t>Tengo cinco sentidos</a:t>
            </a: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939600" cy="140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268280" cy="127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80880" y="1905120"/>
            <a:ext cx="1594080" cy="1396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92360" cy="11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934320" y="4419720"/>
            <a:ext cx="1692000" cy="137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tem User</cp:lastModifiedBy>
  <dcterms:modified xsi:type="dcterms:W3CDTF">2011-08-12T23:13:10Z</dcterms:modified>
  <cp:revision>7</cp:revision>
  <dc:subject/>
  <dc:title>PowerPoint Presentation</dc:title>
</cp:coreProperties>
</file>